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D148-6043-4E1B-9B70-3F7474B6F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1739-D4FF-44BF-BD6D-F1A65CE4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B25B-C906-4B04-ADA3-4379B0DD3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DD1F-EC0E-489D-9C8C-987E1128F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58BE-F3CE-4C91-96E5-6B711462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EDA5-5477-44E8-8985-1A0C75BC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A4A2-2CA3-43C0-84B2-50A29EC0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E583-5793-48D7-B8B0-A6423A7B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8648-BE81-4394-AC2D-9638356A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32AB-6544-48B0-A009-FF8AC272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845B-D71F-4798-9AB5-63FB0FD9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E889-9AB7-4855-A50A-7AB5B00C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9EBF-EBF1-4F2E-A9D0-433E800D7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Gerar"/>
          <p:cNvPicPr/>
          <p:nvPr/>
        </p:nvPicPr>
        <p:blipFill>
          <a:blip r:embed="rId1"/>
          <a:stretch/>
        </p:blipFill>
        <p:spPr>
          <a:xfrm>
            <a:off x="1066680" y="304920"/>
            <a:ext cx="4114800" cy="3714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nesis 20-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3000" y="3809520"/>
            <a:ext cx="6400800" cy="175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on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5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nesis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raham leaves Mamre, and, after having sojourned at Kadesh and Shur, settles in Gerar, v.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imelech takes Sarah, Abraham having acknowledged her to be merely his sister, v.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imelech is warned by God in a dream to restore Sarah to her husband Abraham, v.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imelech asserts his innocence, v. 4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 is further warned, v. 6-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imelech rebukes Abraham, v. 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nesis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raham defends his conduct, v. 11-1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imelech restores Sarah, making Abraham a generous present of sheep, oxen, and male and female slaves, v. 1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imelech offers him a residence in any part of the land, v. 1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he reproves Sarah, v. 1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pon the intercession of Abraham, the curse of barrenness is removed from Abimelech and his household, v. 17-1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nesis 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aac is born according to the promise, v. 1-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aac is circumcised when he is only eight days old, v.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braham's age, and Sarah's exultation at the birth of their son, v. 5-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aac is weaned, v. 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n Ishmael mocks on the occasion, Sarah requires that both he and his mother Hagar shall be dismissed, v. 9-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braham, distressed because of this, is nevertheless ordered by Yahweh to comply, v. 11-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promise is renewed to Ishmael, v. 1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nesis 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braham dismisses Hagar and her son; they go to the wilderness of Beer-sheba, v. 1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y are in great trouble because they ran out of water, v. 15-1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 angel of God appears to them and supplies them, v. 17-1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hmael prospers and is married, v. 20-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bimelech and Phichol his chief captain make a covenant with Abraham, and surrender the well of Beer-sheba for seven ewe lambs, v. 22-3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braham plants a grove, and invokes the name of the everlasting God, v. 3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499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031840" y="1523880"/>
            <a:ext cx="50803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32484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495440"/>
            <a:ext cx="9144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7:23:59Z</dcterms:created>
  <dc:creator>Terry Benton</dc:creator>
  <dc:description/>
  <dc:language>en-US</dc:language>
  <cp:lastModifiedBy>Terry Benton</cp:lastModifiedBy>
  <dcterms:modified xsi:type="dcterms:W3CDTF">2004-08-18T21:44:00Z</dcterms:modified>
  <cp:revision>4</cp:revision>
  <dc:subject/>
  <dc:title>    Genesis 20-21</dc:title>
</cp:coreProperties>
</file>